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FAA7-5A12-4F73-AA0A-6FF7EB07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6F25-49AF-4052-8AAF-BB8508D7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D511-646C-4713-BC62-387ACDC2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4FED-313F-4EB5-8ABF-544F6B7E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CC9A-9371-4638-A0D2-CE044EAD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ED77-D735-4842-8D00-9EBB05D1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B517-2F80-4AE6-B605-B64A32A0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4C08-CE60-43C9-A66C-A241E118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2C8D-64D8-400D-80D2-9D336B7D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9A4E-7ADE-455E-831B-91B7803E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F787-817D-40BD-8B21-C6922A09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A7E1-AC21-4322-B094-43DC83E0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F7C4-FAB3-4CCF-A90F-FDD3708D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3BB3-358B-4CC8-9721-1DC2D9EF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5480-4CA8-4408-B256-75056D07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54F6-A99C-4070-B325-8247B0B3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470F-68B8-4543-9F91-0FDCB0A9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5D8D-FA6D-4BE6-96CD-DEB3C637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CF2D-BE0E-4C60-B10D-3138BFDA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1C71-997C-44B5-95EC-88D03E63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B05C-74E7-45FF-9385-94D0688D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FFE3-239B-4867-A3C9-92518AC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C6C0-9291-45A8-9F1E-17CA0CC8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4F3E-0EC7-4CEE-AA72-C50A4294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C202-D80B-40B0-A0F5-D06B34A19E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32BD-6107-417C-96C3-D225018C3B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ЕК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900"/>
            </a:br>
            <a:r>
              <a:rPr b="1" i="1" lang="ru-RU" sz="4300" spc="-1" strike="noStrike">
                <a:solidFill>
                  <a:srgbClr val="ffffff"/>
                </a:solidFill>
                <a:latin typeface="Arial"/>
              </a:rPr>
              <a:t>ТАЙНА ПРОВАЛА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76160" y="3587400"/>
            <a:ext cx="701028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втор проекта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- Алексеева Юл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4А класс, школа №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532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Arial"/>
              </a:rPr>
              <a:t>Этапы реализации проект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2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  Посещение Туимского   пров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Июнь - август 2007г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с внешним видом Туимского провала, его истори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обретение видеоматериалов по данной т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684360" y="3346560"/>
            <a:ext cx="41050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Arial"/>
              </a:rPr>
              <a:t>Этапы реализации проект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1166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Проведение опроса однокласс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ентябрь 200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просе участвовали учащиеся  3 А класса в количестве 25 человек, из них 13 мальчиков и  12 девочек  в возрасте 9-10 л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4817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Arial"/>
              </a:rPr>
              <a:t>Этапы реализации проект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98108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Составление схемы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октябрь 2007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987640" y="2116080"/>
            <a:ext cx="5305320" cy="3979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5257440" y="1981080"/>
            <a:ext cx="3429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Arial"/>
              </a:rPr>
              <a:t>Этапы реализации проект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457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роведение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оябрь 2007 – январь 200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ение теоретической информации по выбранной т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ение и анализ видео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ение презен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0" descr=""/>
          <p:cNvPicPr/>
          <p:nvPr/>
        </p:nvPicPr>
        <p:blipFill>
          <a:blip r:embed="rId1"/>
          <a:stretch/>
        </p:blipFill>
        <p:spPr>
          <a:xfrm>
            <a:off x="250920" y="3751200"/>
            <a:ext cx="4140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Arial"/>
              </a:rPr>
              <a:t>Этапы реализации проект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981080"/>
            <a:ext cx="42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Выступление перед одноклассниками в форме презен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февраль 20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4500720" y="2143080"/>
            <a:ext cx="46432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Форма продукта  проектной деятельности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- презентация «Загадка Туимского провала»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57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провал туима.WMV" descr=""/>
          <p:cNvPicPr/>
          <p:nvPr/>
        </p:nvPicPr>
        <p:blipFill>
          <a:blip r:embed="rId1"/>
          <a:stretch/>
        </p:blipFill>
        <p:spPr>
          <a:xfrm>
            <a:off x="1857240" y="214308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692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5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Затопление водо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в разрезе.WMV" descr=""/>
          <p:cNvPicPr/>
          <p:nvPr/>
        </p:nvPicPr>
        <p:blipFill>
          <a:blip r:embed="rId1"/>
          <a:stretch/>
        </p:blipFill>
        <p:spPr>
          <a:xfrm>
            <a:off x="1403280" y="179532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9803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троение подводной част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весь путь.WMV" descr=""/>
          <p:cNvPicPr/>
          <p:nvPr/>
        </p:nvPicPr>
        <p:blipFill>
          <a:blip r:embed="rId1"/>
          <a:stretch/>
        </p:blipFill>
        <p:spPr>
          <a:xfrm>
            <a:off x="1547640" y="179532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0929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7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ff"/>
                </a:solidFill>
                <a:latin typeface="Arial"/>
              </a:rPr>
              <a:t>Этапы реализации проект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Рефлек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рт 2008 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0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5113440" cy="3097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0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3121200" cy="3919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0"/>
          <p:cNvSpPr/>
          <p:nvPr/>
        </p:nvSpPr>
        <p:spPr>
          <a:xfrm>
            <a:off x="324000" y="2349360"/>
            <a:ext cx="45720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дения об авторе:</a:t>
            </a:r>
            <a:br>
              <a:rPr sz="1800"/>
            </a:b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лексеева Юля, 10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Я учусь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в 4 А клас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школе №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и увлеч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н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нгл. язы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епка из глины (керами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ктуальност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касия - удивительный край, история которого начинается со времен Ледникового пери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Картинка 5 из 220"/>
          <p:cNvPicPr/>
          <p:nvPr/>
        </p:nvPicPr>
        <p:blipFill>
          <a:blip r:embed="rId1"/>
          <a:stretch/>
        </p:blipFill>
        <p:spPr>
          <a:xfrm>
            <a:off x="0" y="2790720"/>
            <a:ext cx="91440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Туимский прова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Туимский провал (Хакассия)"/>
          <p:cNvPicPr/>
          <p:nvPr/>
        </p:nvPicPr>
        <p:blipFill>
          <a:blip r:embed="rId1"/>
          <a:stretch/>
        </p:blipFill>
        <p:spPr>
          <a:xfrm>
            <a:off x="108000" y="2205000"/>
            <a:ext cx="4236840" cy="4262400"/>
          </a:xfrm>
          <a:prstGeom prst="rect">
            <a:avLst/>
          </a:prstGeom>
          <a:ln w="0">
            <a:noFill/>
          </a:ln>
        </p:spPr>
      </p:pic>
      <p:pic>
        <p:nvPicPr>
          <p:cNvPr id="122" name="карта Х. 2.WMV" descr=""/>
          <p:cNvPicPr/>
          <p:nvPr/>
        </p:nvPicPr>
        <p:blipFill>
          <a:blip r:embed="rId2"/>
          <a:stretch/>
        </p:blipFill>
        <p:spPr>
          <a:xfrm>
            <a:off x="4286160" y="28576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7008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Туимский провал (Хакассия)"/>
          <p:cNvPicPr/>
          <p:nvPr/>
        </p:nvPicPr>
        <p:blipFill>
          <a:blip r:embed="rId1"/>
          <a:stretch/>
        </p:blipFill>
        <p:spPr>
          <a:xfrm>
            <a:off x="0" y="3219480"/>
            <a:ext cx="4859280" cy="3638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ктуальност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428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а-великан до сих пор хранит тайну на дне своего озе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Туимский провал (Хакассия)"/>
          <p:cNvPicPr/>
          <p:nvPr/>
        </p:nvPicPr>
        <p:blipFill>
          <a:blip r:embed="rId2"/>
          <a:stretch/>
        </p:blipFill>
        <p:spPr>
          <a:xfrm rot="708000">
            <a:off x="4642920" y="2205000"/>
            <a:ext cx="42865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Arial"/>
              </a:rPr>
              <a:t>Проблема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достаток информации о феномене Туимского провал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8920" y="1981080"/>
            <a:ext cx="70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зультаты опроса в клас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0"/>
          <p:cNvGraphicFramePr/>
          <p:nvPr/>
        </p:nvGraphicFramePr>
        <p:xfrm>
          <a:off x="2050920" y="2417760"/>
          <a:ext cx="547380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417760"/>
                    <a:ext cx="547380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Иде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 найти материал и составить презентацию о загадочном провале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лительность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юнь 2007г - март 2008 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еография проекта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Красноярск, пос. Туим - Хака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Туимский провал (Хакассия)"/>
          <p:cNvPicPr/>
          <p:nvPr/>
        </p:nvPicPr>
        <p:blipFill>
          <a:blip r:embed="rId1"/>
          <a:stretch/>
        </p:blipFill>
        <p:spPr>
          <a:xfrm>
            <a:off x="5246640" y="2652840"/>
            <a:ext cx="34401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ь проекта     -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ить особенности строения подводной части Туимского провала, составить презентацию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дачи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едение анализа источников информации по истории образования и современного состояния пров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снове анализа источников построение схемы исслед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едение практического исследования строения дна Туимского пров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ботка и анализ результатов изучения видеоматериал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резентации и выступление перед учащимися, интересующимися данным природным феномен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8686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рем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емя на изучение информации, видеодокументов, написание проекта, создание презент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атериа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еоматериалы кинокомп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Лайнер-филь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ью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игрыв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лове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ощь координатор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ного руководит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00720" y="2527200"/>
            <a:ext cx="4325760" cy="3524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Необходимые ресурсы и оборудование: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Ожидаемые результаты: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омство с особенностями строения подводной части Туимского прова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презентации на основе полученных материалов для предъявления заинтересованным лицам (учителям, учащимся и т.д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09-01-21T10:16:13Z</dcterms:modified>
  <cp:revision>27</cp:revision>
  <dc:subject/>
  <dc:title>PowerPoint Presentation</dc:title>
</cp:coreProperties>
</file>